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77E-B5F6-4156-9A32-75DD6815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C2D-CC76-4B25-8572-57A7CFE7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430-0969-453D-8122-B7EDD122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D43-5159-4211-9DD5-641931C8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AF1-5C0A-447F-A071-AFFBD7AD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7A2-B36A-40F3-ABFB-E7C4E3C8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551-4CD1-41FA-9E9C-1DD0C7E1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172-40A6-4D86-922C-5DC8E998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90D-204D-4092-BFE0-F1F29B78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B5B-DF8A-4A9E-AE54-37FC3CD8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4D2-3EBE-4ACD-B238-4C9643FA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CA0-79A3-4AAD-87CA-B40FBDB7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21DB-5948-44AE-97B0-0A60BAEEEC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отложная  Кардиология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арентерального введения клонидина и в/м введения сульфата магния, а также  недифференцированного в зависимости от типа ГК лечения (дибазол в/в или в/м, обзидан в/в, дроперидол в/в) вызывают серьезные возраж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окое использование клонидина ограничивает плохая предсказуемость эффекта (от развития коллапса до возможного  повышение АД за счет первоначальной стимуляции периферических альфа-адренорецепторов) и высокая вероятность развития побочных эффектов (включая сухость во рту, сонливость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/м введение сульфата магния не только крайне болезненно и некомфортно для пациента, но и чревато развитием осложнений, наиболее неприятное из которых – образование инфильтратов в месте введ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базол не обладает выраженным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нзивным действием, его применение оправдано только при подозрении на нарушение мозгового кровообра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ивенное введение обзидана требует от врача определенного навыка и чревато серьезными осложнениями, а дроперидол показан только при выраженном возбуждении боль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препаратов, не обладающих гипотензивным действием (анальгина, димедрола, но-шпы, папаверина и т.п.) при ГК не оправдан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Цель терапии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зированное снижение АД на 20 - 30% в течение 2 - 6 ча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3760" y="472428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лгоритм выбора терапии при ГК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7720" y="685800"/>
            <a:ext cx="3141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тонический кри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4840" y="1447920"/>
            <a:ext cx="3552120" cy="4406760"/>
            <a:chOff x="384840" y="1447920"/>
            <a:chExt cx="3552120" cy="4406760"/>
          </a:xfrm>
        </p:grpSpPr>
        <p:sp>
          <p:nvSpPr>
            <p:cNvPr id="128" name=""/>
            <p:cNvSpPr/>
            <p:nvPr/>
          </p:nvSpPr>
          <p:spPr>
            <a:xfrm>
              <a:off x="384840" y="1447920"/>
              <a:ext cx="3498480" cy="91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ез клинических призна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ражения органов-мишене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и неврологической симптоматик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5560" y="2666880"/>
              <a:ext cx="25077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н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зывает опасений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8720" y="3657600"/>
              <a:ext cx="301824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ерапия пероральным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гипотензивными ЛС, 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учае тревожности и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анической атаки допустим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именение анксиолити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4320" y="5486400"/>
              <a:ext cx="28890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нтроль через 6 - 24 час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85080" y="1371600"/>
            <a:ext cx="3713400" cy="4917240"/>
            <a:chOff x="5185080" y="1371600"/>
            <a:chExt cx="3713400" cy="4917240"/>
          </a:xfrm>
        </p:grpSpPr>
        <p:sp>
          <p:nvSpPr>
            <p:cNvPr id="133" name=""/>
            <p:cNvSpPr/>
            <p:nvPr/>
          </p:nvSpPr>
          <p:spPr>
            <a:xfrm>
              <a:off x="5185080" y="1371600"/>
              <a:ext cx="371340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еврологическая симптоматика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тинопатия (нарушение зрения)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оль в груди, Отек легких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Эклампсия, Катехоламиновый криз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чечная недостаточность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04880" y="3162240"/>
              <a:ext cx="33948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тяжело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9840" y="4076640"/>
              <a:ext cx="30855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еотложная в/в терап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04880" y="5829120"/>
              <a:ext cx="24498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оспитализац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42720" y="64911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К без клинических признаков поражения органов-мишеней и неврологической симптоматики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1143000"/>
            <a:ext cx="3962520" cy="56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 Диба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 Дрот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3. Пап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Метами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5. Димедр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6. Сульфат маг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7. Клонид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8.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оспитализация в стационар либо с сохраняющейся АГ либо с клиникой побочных эффектов применения лекарственных средст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518148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 - per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Нифедипин 5-2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Лабеталол 200-1200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Каптоприл 25-50 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Клонидин 01-04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Фуросемид 40-8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Диазепам 5-10 м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 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ли 10 мг в/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Амбулаторное наблю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рмагнезин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агнезия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ш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бство доз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űrproduch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х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кая концент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си стекла и асбе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46016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врологическая симптоматика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Лабеталол 2-4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Урапидил 12,5-25 мг болюс, инфузия 5-40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кардипин 5-15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080" y="12952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182880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Экламп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495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Гидралазин 10-20мг в/в, или 20-50 мг в/м каждые 4-6 ча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1-2,5 г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6964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10552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ульфат магни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2193480"/>
            <a:ext cx="28191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ек легких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20-8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алаприлат 0,625-1,25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галяция 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06120" y="15238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743200"/>
            <a:ext cx="4724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Эсмолол 50-300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64440" y="21337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ый коронарный синдр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8148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итроглицерин, Морфин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Сульфат магния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736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лгоритм лечения ГК на догоспитальном этап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, 200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1066680"/>
            <a:ext cx="4724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Гипертоническая энцефалопа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необходимости – эуфиллин, магния сульфат, диазепам, маннитол и фуросемид, дексаметаз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НМ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ая сердечная недостаточ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(лазикс) (до 200 мг)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Расслаивающая аневризма аор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трия нитропруссид (нифедипин)+препранолол или верапами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9000"/>
            <a:ext cx="4114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457200" y="3962520"/>
            <a:ext cx="4495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828800"/>
            <a:ext cx="31240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окинетический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ифедипин 5-2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топрил 25-5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еркинетический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онидин 01-0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г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ропранолол 20-4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21932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осложненный Г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648320"/>
            <a:ext cx="365760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Выраженная вегетативная, психоэмоциональная окра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азепам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2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мена клонид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нидин п/я или в/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ы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екомендац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 диагностике и лечению артериальной гипертензии, 200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04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, не купирующийся на догоспитальном эта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 с выраженными проявлениями гипертонической энцефалопат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ия, требующие интенсивной терапии и постоянного врачебного наблюдения (инсульт, субарахноидальное кровоизлияние, остро возникшие нарушения зрения, отек легких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ипертонический криз (ГК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сложненный гипертензивный (гипертонический) кри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кое внезапное повышение АД до индивидуально высоких величин при минимальной субъективной и объективной симптома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криз, или собственно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гипертоничес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 внезапное повышение АД 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наличи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женны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явлений с субъективными и объективными признаками церебральных, сердечно-сосудистых и вегетативных нару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ерцательная аритм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принятия решения при вызове к пациенту с мерцательной аритмией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95560" y="144792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66688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266688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окс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657600"/>
            <a:ext cx="1600200" cy="6858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хи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1600200" cy="68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о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657600"/>
            <a:ext cx="1600200" cy="68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3657600"/>
            <a:ext cx="1600200" cy="68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029200"/>
            <a:ext cx="1523880" cy="68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гокс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5029200"/>
            <a:ext cx="1524240" cy="6858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отложн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апия н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аза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029200"/>
            <a:ext cx="1523880" cy="68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окаинами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5029200"/>
            <a:ext cx="1523880" cy="68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95120" y="2057400"/>
            <a:ext cx="1676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057400"/>
            <a:ext cx="1828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371600" y="3124080"/>
            <a:ext cx="1295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31240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714640" y="31240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1240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оянная – контроль Ч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систирующая – восстановление синусового ритма и его поддерж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оксизмальная – профилактика тромбоэмболических ослож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дходы к лечению мерцательной аритмии -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37160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28600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оксизмаль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систирующ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352680"/>
            <a:ext cx="2743200" cy="1219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отсутств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мптоматики терап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требу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81480"/>
            <a:ext cx="2743200" cy="12193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тикоагулянт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рап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3429000"/>
            <a:ext cx="167652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5257800"/>
            <a:ext cx="2210040" cy="1143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троль Ч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81080" y="1981080"/>
            <a:ext cx="24386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724280" y="2743200"/>
            <a:ext cx="24386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4267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285640" y="4267080"/>
            <a:ext cx="24382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181480"/>
            <a:ext cx="2590920" cy="12193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держание рит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3352680"/>
            <a:ext cx="2590920" cy="12193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диовер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012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1981080"/>
            <a:ext cx="2590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тивопоказания к восстановлению синусового ритма на догоспитальном этапе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ительность пароксизма мерцания предсердий более двух дн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казанная дилатация левого предсердия (передне-задний размер 4,5 см по ЭхоК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тромбов в предсердиях или тромбоэмболические осложнений в анамнез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острого коронарного синдрома (при наличии стабильной гемодинамик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выраженных электролитных нару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компенсация тиреотоксикоз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первые зарегистрированное мерцание предсерд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затянувшийся пароксиз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отсутствие эффекта от медикаментозной терап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пароксизм с высокой частотой желудочковых сокращений и развитием осложнений аритм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частые рецидивы мерцательной аритмии (для подбора антиаритмической терапии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ри постоянной форме мерцательной аритмии госпитализация показана при высокой тахикардии, нарастании сердечной недостат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кардиоверс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коз +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езболи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еторол 30 гм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дазолам (Дормикум) 5-15 мг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вывода из наркоза – Флумазенил (Анексат) 0,2-0,3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диоверсия нарастающими разрядами от 200 до 360 Дж (всего три попытки). Пауза между разрядами должна быть не меньше 1 мин во избежание повреждения миокар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Фармакологическая кардиоверсия –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3520" y="1397160"/>
            <a:ext cx="8381880" cy="4983120"/>
            <a:chOff x="533520" y="1397160"/>
            <a:chExt cx="8381880" cy="4983120"/>
          </a:xfrm>
        </p:grpSpPr>
        <p:sp>
          <p:nvSpPr>
            <p:cNvPr id="221" name=""/>
            <p:cNvSpPr/>
            <p:nvPr/>
          </p:nvSpPr>
          <p:spPr>
            <a:xfrm>
              <a:off x="681984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428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29080" y="592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52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отало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984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2428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29080" y="5407200"/>
              <a:ext cx="20952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52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Дигокс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1984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2428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9080" y="495144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каинам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1984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28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9080" y="449568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52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инид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984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2428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9080" y="404028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352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Амиодар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1984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28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9080" y="358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52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пафен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1984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2428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29080" y="312912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52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бу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1984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428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29080" y="267336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 или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52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Флекаин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1984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428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221760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офе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984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ровень доказанност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428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ип рекоменда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9080" y="1397160"/>
              <a:ext cx="2095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уть введ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52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20" y="139716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520" y="22176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520" y="267336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20" y="31291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520" y="358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20" y="40402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44956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495144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54072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638028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290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1984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91540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592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нтиаритмики – режимы введ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пафенон – 450-600 мг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ли 1,5-2,0 мг/кг за 10-20 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иодарон – 600-800 мг/су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до дозы 10 г), затем 200-400 мг/сут в качестве подерживающей дозы или 30-60 минутная инфузия 5-7 мг/кг с последующим переходом на перорральный пр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каинамид – 500-1000 мг внутривенно за 10-20 минут с контролем АД и ширины желудочковых комплек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нидин – 0,75 – 1,5 г за 6-12 часов параллельно с препаратом, замедляющим рит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 – выбор леч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аркт миокарда – ЭИТ, кордарон, бета-блокаторы, дигоксин; гепар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инд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PW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ЭИТ; при комплекса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R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бельше 0,12 с – ибутилид, прокаинамид, кордарон.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е рекомендуются или противопоказаны бета-блокаторы, дигоксин, верапам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МП – амиодарон, дизопирам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структивные заболевания легких –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еменность – дигоксин, бета-блокаторы, антагонисты кальция; ЭИТ по строгим показани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еотоксикоз – бета блокаторы, при их плохой переносимости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чины возникновения и патогенез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Сосудистый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ие ОПС за счет увеличения тонуса артериол – вазомоторного ( обусловленного нейрогуморальными влияниями ) и базального ( при задержке натрия 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Кардиальный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сердечного выброса за счет повышения ЧСС, ОЦК и сократимости миокар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вазодилат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бетаадреноблокаторов, антагонистов кальция ( верапамила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епараты для достижения контроля над ЧСС (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)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8600" y="1752480"/>
            <a:ext cx="8686800" cy="4451400"/>
            <a:chOff x="228600" y="1752480"/>
            <a:chExt cx="8686800" cy="4451400"/>
          </a:xfrm>
        </p:grpSpPr>
        <p:sp>
          <p:nvSpPr>
            <p:cNvPr id="283" name=""/>
            <p:cNvSpPr/>
            <p:nvPr/>
          </p:nvSpPr>
          <p:spPr>
            <a:xfrm>
              <a:off x="6167520" y="550404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25-0,25 мг/су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25880" y="550404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 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8520" y="550404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 в/в каждые 2 часа до 1,5 м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" y="550404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гокс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7520" y="4803840"/>
              <a:ext cx="27478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5880" y="4803840"/>
              <a:ext cx="12416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3-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98520" y="4803840"/>
              <a:ext cx="27273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75-0,1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" y="4803840"/>
              <a:ext cx="1969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ерапами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67520" y="421632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5880" y="421632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8520" y="421632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5 мг/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421632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опран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7520" y="351648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25880" y="351648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98520" y="351648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,5-5 мг болюсом за 2 мин (трижды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351648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етопр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67520" y="292896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5-0,2 мг/кг/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5880" y="292896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8520" y="292896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5 мг/кг за 1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600" y="292896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см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67520" y="2340000"/>
              <a:ext cx="274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-15 мг/ч - инфуз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25880" y="2340000"/>
              <a:ext cx="1241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-7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98520" y="2340000"/>
              <a:ext cx="2727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" y="2340000"/>
              <a:ext cx="19699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лтиазе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67520" y="175248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оддерживающ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25880" y="175248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ффек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98520" y="175248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Нагрузочн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175248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17524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234000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" y="292896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600" y="351648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" y="421632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" y="48038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" y="55040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" y="62038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98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2588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67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154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нфаркт миокард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лгоритм терапии при Q-ИМ (инфаркте с подъемом ST или острым развитием БЛНПГ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1920" y="2128680"/>
            <a:ext cx="7491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сублингваль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спирин 250 мг разже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рфин 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1 м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– инфузия 0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1%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вора (от 0,3 до 2 м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 – под контролем АД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возможной задержке с тромболитической терапией более 1 часа – 1500000 ЕД стрептокиназы (инфузия за 30-6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ая терап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сервативная (тромболити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тивная (АКШ, балонная ангиопластик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____________________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2-20% случаев в первые сутки ОИМ фиксируется спонтанный лизис тромба с восстановлением кровото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779400"/>
            <a:ext cx="77724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5146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ый синдром (клинические проявления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рушения ритма и провод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сократительной способности миокар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цидив болевого синдр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я на ЭКГ (парадоксальное увеличение степени подъема ST, удлинение QT, увеличение дисперсии Q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Теоретическое обоснование положительного эффекта магния при инфаркте миокард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еточ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становление внутриклеточной концентрации магния в кардиомиоци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ньшение степени повреждения миокарда (ограничение перегрузки кальцием, подавление активности свободных радикал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миокард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лучшение перфузии зоны ишемического ри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аритмический эфф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дулирование воспалительной реакции в зоне риска путем воздействия на систему комплемен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стем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тромбоцитарное 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эндотелиновое воз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Динамика сегмента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 пациентов, получивших тромболитическую терапию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9920" y="1830240"/>
          <a:ext cx="776124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830240"/>
                    <a:ext cx="77612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Динамика дисперсии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Q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38240" y="2274840"/>
          <a:ext cx="716904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274840"/>
                    <a:ext cx="716904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альгина с антигистаминными препаратами обладает лишь умеренными анальгетическим и седативным эффектами и не способна снизить нагрузку на миокард. ингаляции кислорода не могут увеличить его доставки в миокард при коронарной недостаточ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ангин не обла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лиянием ни на коронарный кровоток, ни на потребность миокарда в кислор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теря времени, затягивание ишемии и увеличение угрозы развития некрозов миокард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еобходимы минимум лекарственных средств для лечения острого коронарного синдрома на догоспитальном этапе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2193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спи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па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магнез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ф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троглице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ептокин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мптоматика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1600200"/>
            <a:ext cx="8610480" cy="4800600"/>
            <a:chOff x="228600" y="1600200"/>
            <a:chExt cx="8610480" cy="4800600"/>
          </a:xfrm>
        </p:grpSpPr>
        <p:sp>
          <p:nvSpPr>
            <p:cNvPr id="50" name=""/>
            <p:cNvSpPr/>
            <p:nvPr/>
          </p:nvSpPr>
          <p:spPr>
            <a:xfrm>
              <a:off x="4267080" y="2884680"/>
              <a:ext cx="457200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збуждение или заторможенность, мышечная дрожь,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гипергидроз, гиперемия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кожи, субфебрилитет, преходящие симптомы очаговых нарушений в ЦНС; тахи- или брадикардия, экстрасистолия;; акцент и расщепление II тона над аортой; признаки систолической перегрузки левого желудочка на Э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2884680"/>
              <a:ext cx="403848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оловная боль, несистемное головокружение, тошнота и рвота, ухудшение зрения, кардиалгия, сердцебиение и перебои в работе сердца, одышка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67080" y="1600200"/>
              <a:ext cx="457200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ивные симптомы криз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600" y="1600200"/>
              <a:ext cx="403848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бъективные симптомы криза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" y="64008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" y="288468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16002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ритмии: опреде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11120" y="2128680"/>
            <a:ext cx="714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-466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ты, ритмичности и (или) последовательности сердечных сокращений: учащение (тахикардия) либо урежение (брадикардия) ритма, преждевременные сокращения (экстрасистолия), дезорганизация ритмической деятельности (мерцательная аритмия) и т.д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нтиаритмическая терапия на догоспитальном этапе показана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578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лохой субъективной переносимости наруш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го ритм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гемодинамическ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имых аритмия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гностически значимых аритмия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228600" y="304920"/>
            <a:ext cx="8610480" cy="6024600"/>
            <a:chOff x="228600" y="304920"/>
            <a:chExt cx="8610480" cy="6024600"/>
          </a:xfrm>
        </p:grpSpPr>
        <p:sp>
          <p:nvSpPr>
            <p:cNvPr id="353" name=""/>
            <p:cNvSpPr/>
            <p:nvPr/>
          </p:nvSpPr>
          <p:spPr>
            <a:xfrm>
              <a:off x="453384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инусовые тахикардия, брадикардия и аритмия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стоянная форма мерцания и трепетания предсердий без признаков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СН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(за исключением желудочковой при остром инфаркте миокарда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скоренны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злово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итм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В-блокада I и II степени у лиц без инфаркта миокарда в анамнезе и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локады ножек пучка Гиса.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860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альн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правентрикулярная тахикардия;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ы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мерц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трепет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едсердий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ахикардия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в острейшей стадии инфаркта миокарда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радиаритмии с развитием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3384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 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60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600" y="3049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" y="762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6329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0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3840" y="304920"/>
              <a:ext cx="0" cy="602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83908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еречень обязательных вопросов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1600200"/>
            <a:ext cx="8763120" cy="4915080"/>
            <a:chOff x="152280" y="1600200"/>
            <a:chExt cx="8763120" cy="4915080"/>
          </a:xfrm>
        </p:grpSpPr>
        <p:sp>
          <p:nvSpPr>
            <p:cNvPr id="365" name=""/>
            <p:cNvSpPr/>
            <p:nvPr/>
          </p:nvSpPr>
          <p:spPr>
            <a:xfrm>
              <a:off x="3409920" y="571284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читывается при выборе терапи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По эффективности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ределенного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нтиаритмик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(аденозин, лидокаин) иногд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ожно определить вид нарушений ритма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280" y="571284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Были ли подобные пароксизмы ранее? Если да, то чем они снимались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09920" y="49104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вить возможные осложнения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2280" y="49104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2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е было ли обмороков, удушья, боли в области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9920" y="4315320"/>
              <a:ext cx="55054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 давности аритмии зависит, в частности, тактика оказания помощи при мерцательной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4315320"/>
              <a:ext cx="3257640" cy="594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 давно возникло ощущение сердцебиени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09920" y="3272040"/>
              <a:ext cx="550548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ритмии, субъективно не ощущаемые, нередко не нуждаются в неотложной терапии; отсутстви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щ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щений, затрудняет определение давности аритмии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2280" y="3272040"/>
              <a:ext cx="3257640" cy="1043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ощущение сердцебиения или перебоев в работе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09920" y="24696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которы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овоцируют нарушения ритма и проводимос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;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учитывать взаимодействие антиаритмиков с др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. препаратам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280" y="24696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ие 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пациент принимал в последнее врем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09920" y="1600200"/>
              <a:ext cx="550548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снить возможную причину аритмии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2280" y="1600200"/>
              <a:ext cx="3257640" cy="869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в анамнезе заболевания сердца, щитовидной железы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2280" y="160020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280" y="24696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280" y="32720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280" y="431532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280" y="49104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280" y="57128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280" y="651528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28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09920" y="1600200"/>
              <a:ext cx="0" cy="491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1540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 аритмии на догоспитальном этапе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бщие принцип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тика зависит от вида аритм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нестабильной гемодинамике в большинстве случаев показана ЭИТ, медикаментозная терапия проводится при стабильной гемодина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одного антиаритмического средства медикаментознаяч терапия прекращается, показана госпитализация (исключение – желудочковая тахикард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вагусные про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вагусных проб – верапамил (изоптин)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дозрении на синдро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PW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новокаинамид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параты резерва – дигоксин, пропранол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показания к госпитализац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зарегистрированн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ффекта от медикаментозной терапии (на догоспитальном этапе применяют только одно аритмическое средство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ложнений, потребовавших проведения электроимпульсной терап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рецидивирующ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295280" y="2971800"/>
            <a:ext cx="6896520" cy="154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оспитализация показана всегд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, после восстановления синусового ритма – поддерживающая терапия лидокаин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лидокаин в/в струйно болюсом (80-100 мг), затем поддерживающая инфузия (20-55 мкг/кг/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и стабильной гемодинамике, при невозможности проведения ЭИТ – новокаинамид (в/в дробно по 100 мг каждые 5 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ируэт», а также тахикардии, рефрактерные к терапии лидокаином и новокаинамидом – магния сульфат в/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огоспитальная помощь при ТЭЛ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фин 1% - 1-2 мл в/в фракционно (до достижения эффек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парин 10 000 Ед в/в болюсом (за исключением случаев, когда пациент принимает непрямые антикоагулянт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ополиглюкин  – инфузия со скоростью 1-2 мл/м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выше 6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в/в введение нитропруссида натрия или изосорбида динитра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6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ниже – введение прессорных ами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бронхоспазме – в/в введение эуфиллина или изопротерено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ассификац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371600"/>
            <a:ext cx="8418600" cy="5288040"/>
            <a:chOff x="457200" y="1371600"/>
            <a:chExt cx="8418600" cy="5288040"/>
          </a:xfrm>
        </p:grpSpPr>
        <p:sp>
          <p:nvSpPr>
            <p:cNvPr id="62" name=""/>
            <p:cNvSpPr/>
            <p:nvPr/>
          </p:nvSpPr>
          <p:spPr>
            <a:xfrm>
              <a:off x="6248520" y="4013280"/>
              <a:ext cx="26272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т нескольких часов до нескольких дне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4013280"/>
              <a:ext cx="274320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До 3-4 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4013280"/>
              <a:ext cx="304812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родолжительность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8520" y="5175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Нормальная или брад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5320" y="5175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Тах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5175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520" y="6191280"/>
              <a:ext cx="2627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осудисты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05320" y="6191280"/>
              <a:ext cx="27432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Кардиальный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6191280"/>
              <a:ext cx="30481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н. Механизм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2997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остепенн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5320" y="2997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тр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997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Развитие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1981080"/>
              <a:ext cx="26272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позд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5320" y="1981080"/>
              <a:ext cx="27432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ран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1981080"/>
              <a:ext cx="304812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тадия АГ, на которой возникает ГК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8520" y="1371600"/>
              <a:ext cx="26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о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5320" y="1371600"/>
              <a:ext cx="2743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ер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1371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137160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19810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2997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4013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665964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85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758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6191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5175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Задачи терапи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«дыхательной пани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езболи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билизация гемодинам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отвращение роста тром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учшение реологических свойств кров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перфузионная терап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ЭКГ-признаки ТЭЛА (появляются в  25% случаев).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 перегрузки правого предсердия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pulmonale - высокий заостренный зубе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отведениях II, III, aVF) и правого желудочка (синдром Мак-Джина-Уайта - глубокий зубец S в I отведении, глубокий зубец Q и отрицательный зубец Т в III отведении с возможным подъемом сегмента SТ; неполная блокада правой ножки пучка Гис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инические признак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езапное начало с появлением одышки (72% случаев) и острой боли в груди (86%), часто -  острая сосудистая недостаточность с появлением бледности, цианоза, тахикардии (87%), падением АД вплоть до развития коллапса и потери сознания (12%). При развитии инфаркта легкого в 10-50% случаев появляется кровохарканье в виде прожилок крови в мокроте. При осмотре могут определяться признаки легочной гипертензии и острого легочного сердца – набухание и пульсация шейных вен, расширение границ сердца вправо, пульсация в эпигастрии, усиливающаяся на вдохе, акцент и раздвоение II тона на легочной артерии, увеличение печени. Возможно появление сухих хрипов над легким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Кардиогенный шок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рдиогенный ш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ический синдром, характеризующийся артериальной гипотензией (САД менее 90-80 мм рт.ст., или на 30 мм рт.ст. ниже "рабочего" уровня у лиц с артериальной гипертензией, уменьшением пульсового давления и признаками резкого ухудшения микроциркуляции и перфузии тканей, в том числе кровоснабжения мозга и почек (заторможенность или возбуждение, падение диуреза менее 20 мл в час, холодная кожа, покрытая липким потом, бледность, серый цианоз, мраморный рисунок кожи); синусовая тахикардия, имеющая компенсаторный характ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кардиогенного шока: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1) -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ритмический шок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ется как результат падения минутного объема кровообращения вследствие тахикардии/тахиаритмии или брадикардии/брадиаритмии; после купирования нарушения ритма достаточно быстро восстанавливается адекватная гемодинами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ефлектор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(болевой коллапс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звивается как реакция на боль и характеризуется быстрым ответом на обезболивающую терапию; отсутствием признаков застойной сердечной недостаточности, ухудшения тканевой перфузии (в частности, серого цианоза); пульсовое давление обычно превышает критический уровен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3)  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стинный кардиоген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вается при объеме поражения, превышающем 40-50% массы миокарда левого желудочка (чаще при передне-боковых и повторных инфарктах, у лиц старше 60 лет, на фоне артериальной гипертензии и сахарного диабета), характеризуется развернутой картиной шока, устойчивой к терапии, нередко сочетающейся с застойной левожелудочковой недостаточностью; в зависимости от выбранных критериев диагностики этого состояния приводимые уровни летальности (в отсутствие хирургического лечения) колеблются на уровне 80-10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Лечение кардиогенного шок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повышении сердечного выброса, что достигается различными способами, значимость которых меняется в зависимости от клинического варианта ш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пирование неблагоприятных рефлекторных влияний на гемодинами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рьба с нарушениями сердечного рит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ение адекватного венозного возврата и диастолического наполнения левого желудочка, борьба с гиповолемией и нарушениями реологических свойств кров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становление адекватной тканевой перфузии жизненно важных органов, в частности, сердц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имуляция сократимости миокарда негликозидными инотропными средства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сердца за счет снижения пост- и преднагруз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изнаков застойной сердечной недостаточности (одышки, влажных хрипов в задненижних отделах легких) больному необходимо придать горизонтальное положение или даже положение Тренделенбурга (с приспущенным головным концом), что, увеличивая венозный возврат к сердцу, способствует возрастанию сердечного выбро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89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озможные осложнен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1422360"/>
            <a:ext cx="8610480" cy="4664160"/>
            <a:chOff x="304920" y="1422360"/>
            <a:chExt cx="8610480" cy="4664160"/>
          </a:xfrm>
        </p:grpSpPr>
        <p:sp>
          <p:nvSpPr>
            <p:cNvPr id="93" name=""/>
            <p:cNvSpPr/>
            <p:nvPr/>
          </p:nvSpPr>
          <p:spPr>
            <a:xfrm>
              <a:off x="3962520" y="3519360"/>
              <a:ext cx="49528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арактерный болевой синдром, изменения ЭК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3519360"/>
              <a:ext cx="36576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трый коронарный синдро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520" y="4535640"/>
              <a:ext cx="4952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оль, картина шока, аортальная недостаточность, тампонада перикарда, ишемия кишечника, мозга, конечностей и др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4535640"/>
              <a:ext cx="365760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асслаивание аневризмы аорт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3063960"/>
              <a:ext cx="495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чаговые расстройств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920" y="3063960"/>
              <a:ext cx="365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НМ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2520" y="1878120"/>
              <a:ext cx="49528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оловная боль, спутанность сознания, тошнота, рвота, судороги, ком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1878120"/>
              <a:ext cx="365760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ипертоническая энцефалопат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1422360"/>
              <a:ext cx="49528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линические проявл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920" y="1422360"/>
              <a:ext cx="365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ложн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142236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1878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30639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920" y="35193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6086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1422360"/>
              <a:ext cx="0" cy="466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1540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453564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Вне зависимости от особенностей клинической картины необходимо обеспечить полноценную анальгези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нарушений ритма является важнейшим мероприятием по нормализации сердечного выброса, даже если после восстановления нормосистолии не отмечается восстановление адекватной гемодинамики. Брадикардия, которая может свидетельствовать о повышенном тонусе вагуса, требует немедленного внутривенного введения 0,3-1 мл 0,1% раствора атроп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развернутой клинической картине шока и отсутствии признаков застойной сердечной недостаточности терапию следует начинать с введения плазмозаменителей в суммарной дозе 400-1200 мл под контролем артериального давления, ЧСС, частоты дыханий и аускультативной картины легких. В случае указаний на существенные потери жидкости и электролитов непосредственно перед развитием острого поражения сердца с развитием шока (длительное применение больших доз мочегонных, неукротимая рвота, профузные поносы и т.п.) для борьбы с гиповолемией используется изотонический раствор натрия хлорида, в количестве до 200 мл за 10 минут с повторным введением аналогичной дозы при отсутствии эффекта или осложнений. В других случаях осуществляется пробное болюсное введение обладающего волемическим и реологическим свойствами декстрана 40 (реополиглюкина) в количестве 100 мл с повторным введением по 50 мл каждые 5 минут до достижения систолического АД 100 мм рт. ст. с последующим переходом на капельное введение или до появления признаков застойной левожелудочковой недостаточности. Поскольку максимальная разовая доза декстрана 40 не должна превышать 400 мл в связи с возможным развитием нефротоксического действия, при превышении этой дозы показан переход на декстран 70 (полиглюки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эффекта от всего комплекса терапевтических мероприятий, включая активную борьбу с гиповолемией, или сочетание кардиогенного шока с застойной сердечной недостаточностью служит показанием к применению инотропных средств из группы прессорных аминов, которые во избежание местных нарушений кровообращения с развитием некрозов тканей следует вводить в центральную ве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памин (допмин) в дозе 1-5 мкг/кг/мин обладает вазодилатирующим эффектом, в дозе 5-15 мкг/кг/мин – вазодилатирующим и положительным инотропным (и хронотропным) эффектами, а в дозе 15-25 мкг/кг/мин – положительным инотропным (и хронотропным) и периферическим вазоконстриктивным эффектами. 800 мг препарата растворяется в 500 мл 5% раствора глюкозы (или 200 мг на 125 мл) – 1 мл полученной смеси содержит 1,6 мг, а 1 капля – 80 мкг допамина). Начальная доза составляет 3-5 мкг/кг/мин с постепенным увеличением скорости введения до достижения эффекта, максимальной дозы (25 мкг/кг/мин, хотя описывается и доза до 50 мкг/кг/мин) или развития осложнений (чаще всего синусовой тахикардии, превышающей 140 в 1 минуту, или желудочковых аритмий). Противопоказаниями к его применению служат тиреотоксикоз, феохромоцитома, сердечные аритмии, повышенная чувствительность к дисульфиду, предшествовавший прием ингибиторов МАО; при предшествовавшем приеме трициклических антидепрессантов дозы должны быть уменьше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44600" y="260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опамин (допмин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эффекта от допамина или невозможность его использования в связи с тахикардией, аритмией или повышенной чувствительностью служит показанием к присоединению или монотерапии добутамином (добутрексом), который в отличие от допамина не вызывает вазодилатацию, но обладает мощным положительным инотроптым эффектом и менее выраженной способностью увеличивать ЧСС и вызывать аритмии. 250 мг препарата разводится в 500 мл 5% раствора глюкозы (1 мл смеси содержит 0,5 мг, а 1 капля – 25 мкг добутамина). При монотерапии он назначается в дозе 2,5 мкг/кг/мин с увеличением каждые 15-30 мин на 2,5 мкг/кг/мин до получения эффекта, побочного действия или достижения дозы 15 мкг/кг/мин. При комбинации добутамина с допамином они назначаются в максимально переносимых дозах. Противопоказанием к его назначению служит идиопатический гипертрофический субаортальный стеноз, стеноз устья аор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62440" y="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обутам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Гемодинамические эффекты добутамин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С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ОП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Ч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КДД в левом желудоч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ДЛ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возможности использовать другие прессорные амины или при систолическом АД менее 60 мм рт. ст. показан норадреналин в возрастающей дозе, не превышающей 16 мкг/мин, обязательно в сочетании с инфузией нитроглицерина или изосорбида динитрата со скоростью 5-200 мкг/мин Противопоказанием к его применению служат тиреотоксикоз, феохромоцитома, предшествовавший прием ингибиторов МАО. При предшествовавшем приеме трициклических антидепрессантов дозы должны быть уменьше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4720" y="189000"/>
            <a:ext cx="39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Норадренал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 отсутствии эффекта от применения допамина или добутамина допустимо их сочетание с норадреналином, доза которого в этом случае должна ограничиваться 8 мкг/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ффекты адренергических препаратов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5800" y="1981080"/>
            <a:ext cx="7772400" cy="4265640"/>
            <a:chOff x="685800" y="1981080"/>
            <a:chExt cx="7772400" cy="4265640"/>
          </a:xfrm>
        </p:grpSpPr>
        <p:sp>
          <p:nvSpPr>
            <p:cNvPr id="432" name=""/>
            <p:cNvSpPr/>
            <p:nvPr/>
          </p:nvSpPr>
          <p:spPr>
            <a:xfrm>
              <a:off x="690408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8720" y="5638680"/>
              <a:ext cx="13953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7600" y="5638680"/>
              <a:ext cx="1851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39920" y="5638680"/>
              <a:ext cx="1417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580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нальный кровото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0408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08720" y="5181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5181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39920" y="5181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580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Л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0408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08720" y="4724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7600" y="4724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39920" y="4724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580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0408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08720" y="4267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57600" y="4267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39920" y="4267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580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0408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38098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57600" y="38098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39920" y="38098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0408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08720" y="33526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57600" y="33526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39920" y="33526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0408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08720" y="2895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57600" y="2895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39920" y="2895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580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0408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08720" y="2438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57600" y="2438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39920" y="2438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 ср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0408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бут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08720" y="1981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п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57600" y="1981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ор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39920" y="1981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0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5800" y="624672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582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582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582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58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582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82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58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58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58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582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58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582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00" y="24382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иагностические критер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Диагностика ГК основывается на следующих основных критерия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незапное нач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ысокий (относительно привычных цифр) подъем А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Церебральные, кардиальные и вегетативные симпто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наличии признаков застойной сердечной недостаточности и в случае применения инотропных средств из группы прессорных аминов показано введение периферических вазодилататоров – нитратов (нитроглицерина или изосорбида динитрата со скоростью 5-200 мкг/мин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отивопоказаний, с целью коррекции микроциркуляторных нарушений, особенно при длительно некупирующемся шоке показано назначение гепарина – 5-10 тыс. МЕ внутривенно болюсно, затем капельно со скоростью 1 тыс. МЕ/час, либо однократно болюсно 10-15 тыс. МЕ с продолжением терапии в стационаре (см. раздел “Острый коронарный синдром”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адекватно проводимой терапии показано применение внутриаортальной баллонной контрпульсации как способ временной стабилизации гемодинамики до выполнения более радикального вмешательств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внутрикоронарной баллонной ангиопластики и др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АКТИКА ПРИ ФИБРИЛЛЯЦИИ ЖЕЛУДОЧК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Основным способом лечения фибрилляции желудочков является электрическая дефибрилляция. Начальная энергия разряда составляет 200 – 360 Дж. При отсутствии электрического дефибриллятора допустимо выполнение прекордиального уда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При сохранении фибрилляции желудочков повторяют электрический разря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При неэффективности – возобновляют основные реанимационные мероприятия, производят интубацию трахеи, налаживают венозный доступ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Адреналин 1 мг в/в струйно каждые 3 – 5 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Возрастающие дозы адреналина 1-3-5 мг в/в каждые 3 минуты, или применение промежуточных доз 2-5 мг в/в каждые 3-5 мин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Если в течение 1 минуты не восстановлен ритм, то выполняется электрическая дефибрилляция разрядом 360 Д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) При продолжающейся фибрилляции желудочков используют антиаритмические препарат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Лидокаин 1,5 мг/кг в/в струйно повторяют через 3–5 мин. В случае восстановления кровообращения налаживают непрерывную инфузию лидокаина со скоростью 2-4 мг/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ульфат магния 1-2 г в/в в течение 1-2 мин. (Предпочтение сульфату магния можно отдать в случае заведомой гипомагниемии, желудочковой тахикардии типа torsade de pointes (“пируэт”)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8) Бикарбонат натрия вводят в/в 1 мэкв/кг, повторяя введение 0,5 мэкв/кг каждые 10 мин при сохраняющейся в течение продолжительного времени остановке кровообращен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комендуется чередовать введение лекарственных препаратов с разрядами дефибриллятора по схеме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“лекарство – разряд – лекарство – разряд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ет отметить, что развитие асистолии после электрической дефибрилляции может быть обусловлено выраженной ваготон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ТАКТИКА ПРИ АСИСТОЛИИ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речень вопросов обязательных при диагностике гипертонического криз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т ли пациент регулярную гипотензивную терапи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 может развиться на фоне неадекватной терапии ил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е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мены (например, бета-адреноблокаторов, клофелин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появилась симптоматика и сколько длится 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ризе АД нарастает в течение минут, час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и ли попытки самостоятельно купировать Г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Чем раньше удавалось снизить А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ыл ли эффе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о должн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ываться при выборе гипотензивного средств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и для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чета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заимодей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тика лечения этой причины остановки кровообращения практически не отличается от изложенной выше. Необходимо обратить внимание на следующее: ЭКГ в одном отведении при мелковолновой фибрилляции желудочков может симулировать асистолию и поэтому асистолия должна быть подтверждена в нескольких отведениях ЭК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ектрическая дефибрилляция при асистолии 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не показа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в связи с тем что разряд может лишь усилить ваготони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сновные реанимационные мероприятия – непрямой массаж сердца и ИВ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Адреналин 1 мг внутривенно струйно каждые 3 – 5 мину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Атропин 1 мг внутривенно струйно, повторные введения каждые 3 – 5 минут до общей дозы 0,04 мг/к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Допамин в дозе 5 – 20 мкг/кг мин (разводится 200 мг препарата на 400 мл физиологического раствор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Электрокардиостимуляция (при асистолии может применяться трансторакальная стимуляц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Бикарбонат натрия в/в 2–4 г (50 – 100 мл 4% раствора), повторное введение 2 г каждые 10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тика оказания неотложной помощи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зависит о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женности симптомати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ты и стойкости АД, в частности диастолического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ичины, вызвавшей повышение 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характера ослож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2001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2-19T14:53:00Z</dcterms:modified>
  <cp:revision>32</cp:revision>
  <dc:subject/>
  <dc:title>Неотложная  Кардиология</dc:title>
</cp:coreProperties>
</file>